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DEDB8-2BDE-446B-AFB1-CB5F878EC08B}"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FAB666-5BEE-4343-A217-6445283D1A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777975-388D-442A-ADCF-410A9D110F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019C0-CA13-4022-A943-D887E3F46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9A203-C171-4C4E-83F9-9DA925FF5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40B06-10E5-4FD1-848E-59375D632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86FDB-9083-45E7-8D00-2DDAE9C00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9B527-2A0E-4E2B-88C9-57D4B6C66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733C5-05FA-436B-91D8-238FF4A76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1EAB6-0972-4FA7-9B3C-01962846B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FD8E3-9DEF-424F-8527-6066B806A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B78D2-D93C-4C64-88FA-B38DBA82C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4BFB8-64ED-463D-ABCB-4B6FBE81A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481DD-CB5F-48C8-A625-2C4017AE1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BDA46-D0CF-40A7-AA03-6C54B2F99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CF7588-74B0-46C7-9022-2F6E80F6F9A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DDF64D-34AA-4DE4-860F-BF82ECC05F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8153280" cy="1923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uman Rights Approach in Lao PDR: Opportunities and Challenges</a:t>
            </a:r>
            <a:r>
              <a:rPr b="1" lang="en-US" sz="3200" spc="-1" strike="noStrike">
                <a:solidFill>
                  <a:srgbClr val="000000"/>
                </a:solidFill>
                <a:latin typeface="Calibri"/>
              </a:rPr>
              <a:t> </a:t>
            </a:r>
            <a:r>
              <a:rPr b="0" lang="en-US" sz="3200" spc="-1" strike="noStrike">
                <a:solidFill>
                  <a:srgbClr val="000000"/>
                </a:solidFill>
                <a:latin typeface="Calibri"/>
              </a:rPr>
              <a:t>for the UN System at Country Level to Strengthen and use Lao HR systems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Human Rights-based Approach and Results-based Management Workshop</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Novotel, Vientiane, Lao PDR, 21-22 September, 2010</a:t>
            </a:r>
            <a:r>
              <a:rPr b="0" lang="en-AU" sz="2700" spc="-1" strike="noStrike">
                <a:solidFill>
                  <a:srgbClr val="898989"/>
                </a:solidFill>
                <a:latin typeface="Calibri"/>
              </a:rPr>
              <a:t> </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 National Human Rights Protection System (NHRPS)</a:t>
            </a:r>
            <a:endParaRPr b="0" lang="en-US" sz="3200" spc="-1" strike="noStrike">
              <a:solidFill>
                <a:srgbClr val="000000"/>
              </a:solidFill>
              <a:latin typeface="Calibri"/>
            </a:endParaRPr>
          </a:p>
        </p:txBody>
      </p:sp>
      <p:sp>
        <p:nvSpPr>
          <p:cNvPr id="51"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national policies and institutions that promote and protect human righ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total human rights infrastructur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ll of the checks and balances needed to ensure that state institutions are accountable and fulfill their duty to respect, protect and uphold human rights</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essential elements of 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international human rights standards must be fully incorporated and reflected in national laws and polic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onal  institutions and civil society should have the means, capacity and backing to implement and or oversee these laws and polic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NHRPS</a:t>
            </a:r>
            <a:endParaRPr b="0" lang="en-US" sz="4400" spc="-1" strike="noStrike">
              <a:solidFill>
                <a:srgbClr val="000000"/>
              </a:solidFill>
              <a:latin typeface="Calibri"/>
            </a:endParaRPr>
          </a:p>
        </p:txBody>
      </p:sp>
      <p:pic>
        <p:nvPicPr>
          <p:cNvPr id="53" name="Diagram 4" descr=""/>
          <p:cNvPicPr/>
          <p:nvPr/>
        </p:nvPicPr>
        <p:blipFill>
          <a:blip r:embed="rId1"/>
          <a:stretch/>
        </p:blipFill>
        <p:spPr>
          <a:xfrm>
            <a:off x="1060560" y="2189160"/>
            <a:ext cx="6108480" cy="4156200"/>
          </a:xfrm>
          <a:prstGeom prst="rect">
            <a:avLst/>
          </a:prstGeom>
          <a:ln w="0">
            <a:noFill/>
          </a:ln>
        </p:spPr>
      </p:pic>
      <p:pic>
        <p:nvPicPr>
          <p:cNvPr id="54" name="Content Placeholder 11" descr="Bartlett_-_Pha_That_Luang_-_Vientiane.jpg"/>
          <p:cNvPicPr/>
          <p:nvPr/>
        </p:nvPicPr>
        <p:blipFill>
          <a:blip r:embed="rId2"/>
          <a:stretch/>
        </p:blipFill>
        <p:spPr>
          <a:xfrm>
            <a:off x="1643040" y="3429000"/>
            <a:ext cx="1984320" cy="158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he Lao PDR Country Context: International HR Instruments</a:t>
            </a:r>
            <a:endParaRPr b="0" lang="en-US" sz="3600" spc="-1" strike="noStrike">
              <a:solidFill>
                <a:srgbClr val="000000"/>
              </a:solidFill>
              <a:latin typeface="Calibri"/>
            </a:endParaRPr>
          </a:p>
        </p:txBody>
      </p:sp>
      <p:sp>
        <p:nvSpPr>
          <p:cNvPr id="56" name=""/>
          <p:cNvSpPr txBox="1"/>
          <p:nvPr/>
        </p:nvSpPr>
        <p:spPr>
          <a:xfrm>
            <a:off x="228600" y="1600200"/>
            <a:ext cx="86868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Lao PDR is a party to six core human rights conventions and two optional protocol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Civil and Political Rights (ICCP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Economic, Social and Cultural Rights (ICESC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nvention on the Elimination of All Forms of Racial Discrimination (ICER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Elimination of All Forms of Discrimination Against Women (CEDAW),</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Persons with Disabilities (CRP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the Child (CRC)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Optional Protocol regarding  the Sale of Children, Child Prostitution and Child Pornography,</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Optional Protocol on the Involvement of Children  in Armed Conflic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ao PDR Country Context: The NHRPS</a:t>
            </a:r>
            <a:endParaRPr b="0" lang="en-US" sz="4000" spc="-1" strike="noStrike">
              <a:solidFill>
                <a:srgbClr val="000000"/>
              </a:solidFill>
              <a:latin typeface="Calibri"/>
            </a:endParaRPr>
          </a:p>
        </p:txBody>
      </p:sp>
      <p:sp>
        <p:nvSpPr>
          <p:cNvPr id="58" name=""/>
          <p:cNvSpPr txBox="1"/>
          <p:nvPr/>
        </p:nvSpPr>
        <p:spPr>
          <a:xfrm>
            <a:off x="457200" y="1600200"/>
            <a:ext cx="4648320" cy="4525920"/>
          </a:xfrm>
          <a:prstGeom prst="rect">
            <a:avLst/>
          </a:prstGeom>
          <a:noFill/>
          <a:ln w="0">
            <a:noFill/>
          </a:ln>
        </p:spPr>
        <p:txBody>
          <a:bodyPr anchor="t">
            <a:normAutofit/>
          </a:bodyPr>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The Constitution</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National institution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Judiciar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National Assembl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ational Human Rights Centre</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Bar Association</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Front for National Construction</a:t>
            </a:r>
            <a:r>
              <a:rPr b="0" lang="en-AU" sz="1600" spc="-1" strike="noStrike">
                <a:solidFill>
                  <a:srgbClr val="000000"/>
                </a:solidFill>
                <a:latin typeface="Calibri"/>
              </a:rPr>
              <a:t> </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State Inspection Authorit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entral and Provincial authorities </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Law enforcement agencies</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Specific laws and decree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cree on Association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complaint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media</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Policy machinery</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p:txBody>
      </p:sp>
      <p:pic>
        <p:nvPicPr>
          <p:cNvPr id="59" name="Content Placeholder 11" descr="Bartlett_-_Pha_That_Luang_-_Vientiane.jpg"/>
          <p:cNvPicPr/>
          <p:nvPr/>
        </p:nvPicPr>
        <p:blipFill>
          <a:blip r:embed="rId1"/>
          <a:stretch/>
        </p:blipFill>
        <p:spPr>
          <a:xfrm>
            <a:off x="5105520" y="1828800"/>
            <a:ext cx="4038480" cy="32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onstraints of ge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major part of country’s territory is mountainous  and yet to be developed. Access is limi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legacy of wa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adverse effects of the destructive wars and armed conflicts, especially of UXO and other war remnants, constitute the major obstacle to the improvement of the living conditions of the people in remote rural are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or educational background of state official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ersistent lack of understanding</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renched cultural belief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impact on health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Limited role for civil socie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the Decree on Associations is little known and hardly encourages the formation and active engagement with civil socie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ck of a Rule of Law cul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o PDR is a society in transi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ess to basic information on law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Members of the public and state officials are sometimes not aware of laws the related to human righ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uman resources constrai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imited capacity in almost all areas of state activ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sensitive rights’: basic freedoms e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speec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asso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minority righ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definition of minority remain a controversial point with implication for minority rights prote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porting compliance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pacity issues undermines the complain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Opportunities and Potential Points of Intervention</a:t>
            </a:r>
            <a:endParaRPr b="0" lang="en-US" sz="4000" spc="-1" strike="noStrike">
              <a:solidFill>
                <a:srgbClr val="000000"/>
              </a:solidFill>
              <a:latin typeface="Calibri"/>
            </a:endParaRPr>
          </a:p>
        </p:txBody>
      </p:sp>
      <p:sp>
        <p:nvSpPr>
          <p:cNvPr id="65" name=""/>
          <p:cNvSpPr txBox="1"/>
          <p:nvPr/>
        </p:nvSpPr>
        <p:spPr>
          <a:xfrm>
            <a:off x="456840" y="1600200"/>
            <a:ext cx="853452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 emerging culture of opennes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allows for open and healthy discussions and debates on human rights issues and a greater willingness to consider human rights question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cceptance of UPR Recommenda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creates a legitimate basis for positive advocac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declared open commitment to the establishment of a Rule of State by 202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further enhances legitimate expectations of the UN agencies and Development Partner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ratification of the ICCP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serves as an important point of reference and creates and appropriate basis for assistance to the Lao PDR to align its laws with ICCPR principles and rules.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 to UNCT: ‘Delivering as One’</a:t>
            </a:r>
            <a:endParaRPr b="0" lang="en-US" sz="40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re is an increasing need to identify areas of synergies for coordination and concerted ac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ample: Human trafficking:</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OD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verty Reduction Un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R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EF</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L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FP</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XO unit</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5:36:20Z</dcterms:created>
  <dc:creator>Sam Blay</dc:creator>
  <dc:description/>
  <dc:language>en-US</dc:language>
  <cp:lastModifiedBy>UNDP</cp:lastModifiedBy>
  <dcterms:modified xsi:type="dcterms:W3CDTF">2010-09-21T03:52:12Z</dcterms:modified>
  <cp:revision>44</cp:revision>
  <dc:subject/>
  <dc:title>Human Rights Approach in Lao PDR: Opportunities and Challenges for the UN System at Country Level to Strengthen and use Lao HR systems </dc:title>
</cp:coreProperties>
</file>